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jpeg" ContentType="image/jpeg"/>
  <Override PartName="/ppt/media/image13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CA61-02BB-4A79-B484-406FD46619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26E-FE84-482E-9715-F3B8E8DC55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067-C7BE-4A58-B159-4F1A27C3439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138-9565-4781-9C36-56016874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3C9-E5F6-4DE3-AD22-DDE100A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41EE8-3C58-4D34-987E-6C5AEF1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C2ACB-D6E1-406C-986A-D71678F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3E16F-42D0-48AA-8BB8-AD04BD7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38647-1F74-417B-AAE0-831909D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37EBC-586E-4303-BD2C-A3A62A8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7C638-932C-4A08-B39D-750604F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4789B-FDCC-43D6-96A4-150A1E2D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D10FD-0E4F-4AD6-AE0C-1D6654E1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B915-AE31-4081-916C-250EB467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F206B-587D-4721-B794-B2CCF415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350-1C61-488B-8A73-C070DAC8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F4EC8-8A61-4A85-8B66-9B8E6E2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C17E-9649-4FC8-AAF4-3F0E665B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276D7-A1AF-4123-A9BC-7A60F192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C6E48-E122-420F-8068-68C4D072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073F2-4683-4B88-B89B-1B855EB7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F07BF-7C55-4BD2-A047-D19D305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C4306-0222-4709-A3D8-4AF7656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64871-4601-4270-993D-AC83DBF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25028-83F8-4F68-A164-B3A7CC0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4A25B-49FC-4826-B903-12CB4F81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2B5-C2EA-4D44-AC25-95003793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9298F-2BA6-4A46-A06A-5C9A0831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4B6CE-8C88-4A63-969D-65B8AB1F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9427-1E94-4266-8D73-003F492E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C2843-E61E-494A-AFD0-B01C356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46529-3C16-42AB-A1DA-B54CCA3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8AA72-D661-49FD-AB71-B5DB21E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A8E16-E3F6-4B98-9515-11A0541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1D1C-6F73-4DA1-92A8-E8F04F8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739FC-A5A8-40B5-BC95-265C176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727E1-9925-4902-A5D8-33EADAF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5ED5-5657-454F-B7CE-690FC21F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25D7-EF41-42FB-88F1-B620EB19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B7786-6506-4F0F-853A-8F1D0C7A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7F23-6802-4D0B-A713-C2748BC5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71F58-5089-4A7C-A7A1-7B34BE4D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B4049-1854-47A3-9800-BBBE47BC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D0276-9C71-4576-A9B8-2BD91AB6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E1A79-D438-41DB-9803-A6CB848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636B0-C64F-4561-9A86-D06AD69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5A72-594D-4ACF-BD49-6366040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23DF2-A941-4FAA-8EC1-7D8AA56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124-D68C-414F-9FD8-0740A78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2E816-C9C3-4D93-96E5-FB78A7B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A21B-393D-4C2D-954C-B4F7FF8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C588-0ACA-49CC-B6F5-145DF20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F9E0E-FE44-477C-9FC0-898FF1E0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71862-FDF2-4856-BBB0-53687565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4B8-3068-48D1-B18B-6620EE3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B94B-5320-4CD4-A520-D8EF549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319-9CDE-4906-BBE0-4EF3CA3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9A3-F4EC-491D-B39D-8F3B08B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96F-35BD-4709-A475-3F8C4DF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D69-DB62-426F-8801-DEDD2E6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CE5-B06B-4881-8AD0-FD87448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9C9-DD5A-4C7F-A59C-0DCC0B2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5CA3-077C-446C-ABEA-A55DEF6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BA9-45A1-4723-A788-6AC53BDD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628E-7C56-4608-B3EA-11DE9B49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81DB-46F9-475E-934A-C72B911F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1900-1BB7-4BDA-BF1C-08A1931A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2131-8A53-44BB-AB0A-881C339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FCC2-AE5E-42FE-BEC1-2D2CEDE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189C-B05F-4A99-9F76-9FF0F7E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A8F-EEF1-4FE1-B1C2-40698542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6D5A-825C-4777-917C-CCB23BA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CEAD-F205-4A54-A0DA-051DEC4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5011-7615-4F4E-B1A2-B3B01DD3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BDE4-E2ED-4B60-929D-C1CB4398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46FF-166F-4658-917C-F5D277D0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C49B-5BDA-477B-B3D5-A4656AD9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D466-B8AC-49D8-B0B9-AC22B9A7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9F1E-3EA9-460C-B67E-06F3C394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CFAA-8690-422D-B399-AAC75561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5809-92B1-4125-A7D3-F1879A9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1C4-D16D-4690-8F33-DD448734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5DDE-CF70-4C2E-959A-3766A06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D002-0739-4CB6-87C4-C1FC41C6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0265-B79B-4506-9507-39C1BD2D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0F81-32D7-45CB-A283-757C11B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4D70-B8F6-4C10-8040-7D09E11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4951-4911-4935-BE3E-25CE88D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2E68-EF27-45AC-9E02-A5008A7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C37B-CBE9-489B-9B3B-941816C7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9499-6013-4D62-9099-A0233405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BA92-5470-408B-8829-71C19B8D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795-D6D9-4FEB-8710-D76A7C4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4A12-C943-4734-A3A2-5630204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375A-0A2D-4FB0-BE5F-390B2031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DB09-6F6A-4C5E-99C8-476AA24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2777-71BE-4638-8052-02E3F40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F8AC-A584-4BF1-8BC9-EB372A72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F899-6A3C-4E58-9182-1C63B87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CA4E-349E-44DD-B80B-815BB78E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0A77-D36C-41E3-82ED-BB91C88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61C2-43D9-471A-9F0C-1BD4AF3A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E99B-AD8D-4345-8F2E-12E3C073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AAF-190B-4B36-8D3F-102AF56A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BD43-1581-44BF-BB81-A5A00A50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1EF2-1FD6-407B-8CBC-E1CD9E0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6E1C-DFDB-4430-BA42-22C32D9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274E-A0C8-459A-8E98-307586E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1281-7113-4AEA-96F3-E956AD4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1819-D45A-4E9D-B425-176F668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39B9-B434-491E-B1D1-7B562449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050F-F4DF-4409-9C2C-B853125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20AA-1D62-4D31-B7EE-AA4874D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43C1-232D-4382-AE72-8CF74154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599-9621-4C67-AF0C-1510F7A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A9B3C-D891-480D-8240-4B90D73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B5B2-8B12-41B0-8660-438C92FB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6FD0-A784-4573-BEAC-23321B3F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2989E-4E23-4A9E-AF9F-BCEDAC9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61B7-D26A-44F4-BDEA-A02D8301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7BAE1-88FB-4C00-BD4D-0A68146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26DE-24BE-4908-BFC7-A41F2F9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35232-1E95-40E4-8813-3A7D7C2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82E7-F6F0-4797-A057-6D0DE39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6FA7-A14D-495F-8E1D-3C8FE2F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1CD-7674-4929-91AC-41AD3DD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E3E5-6080-4DDE-8943-A2C2FB3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7D935-5F81-4CEB-B255-BDFF9CD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1C55-3BAE-45B6-BABE-D038ADE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229E-B6FF-429B-9510-E938E70B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A50F-4308-4776-8F2F-0DD0FAFF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85EF-6C5F-4C57-B0FD-1B2A6A00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445BF-7B81-4C84-AED7-E388FBA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C5E9-6365-4955-86BA-8C41E6A5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689A-B533-4D02-9472-009975E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D2596-DE54-4399-B2F7-4D4D60A9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2EC-E440-43E9-B439-77FA14A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2652-D17D-4610-A2CD-521E7C5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4B27-2775-4DBE-AC81-F64E94A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745BF-1A4F-4C96-952C-49E7A82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75D9E-E31C-49AB-84E7-70F02D0F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FF32-F4C0-4969-B139-05C9E6FD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F28D9-79AA-4663-8A27-15DDA49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46791-7144-4444-AD2C-749000D4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665FF-EF1B-4AFF-87D4-908DA9F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5655-C591-4C0E-B175-97D16E52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C2470-96ED-4B3E-85F4-ABB69C9F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001-B166-491D-BA13-5B19698BC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9F4-7D11-48B5-A44A-DE3E09DF8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1EF5-A821-4F6F-8EA0-230FE1E4C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7AE3-44C3-4C54-9B1D-4D77E0605A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416E-AFD8-44BA-A3FF-7D65E9032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5A2-813C-4528-9A81-84EF1475C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2F34-8AB6-4D8D-BCE1-6963E7543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D92-6472-4DCB-A5C7-B2835B84B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B56-D7D2-4735-96DE-59F08DF55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E2AD-4A7A-4FA8-86EF-D5C6ED6EB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A1AF-9792-458E-AB62-D1EAF31A2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7AF-DCE6-467F-A2FD-E16E4BCB0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CFA-4530-48CB-8A6C-28A6D38F46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63640" y="2707920"/>
            <a:ext cx="525780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ahoma"/>
              </a:rPr>
              <a:t>O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Tahoma"/>
              </a:rPr>
              <a:t>Sistem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Tahoma"/>
              </a:rPr>
              <a:t>Digestivo no Homem</a:t>
            </a:r>
            <a:endParaRPr b="0" lang="en-US" sz="3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2987640" y="6165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ências da Natureza 6º 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4CD-AFB9-4E39-90E5-A8378DE3B0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estômag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Picture 7" descr="estomago_1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3635280" y="1557360"/>
            <a:ext cx="55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 movimentos peristál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co gást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AutoShape 9"/>
          <p:cNvSpPr/>
          <p:nvPr/>
        </p:nvSpPr>
        <p:spPr>
          <a:xfrm>
            <a:off x="6156360" y="465300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4140360" y="58053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Times New Roman"/>
              </a:rPr>
              <a:t>Qui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3995640" y="3860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transformam o bolo ali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 h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22" descr="Estomago"/>
          <p:cNvPicPr/>
          <p:nvPr/>
        </p:nvPicPr>
        <p:blipFill>
          <a:blip r:embed="rId2"/>
          <a:stretch/>
        </p:blipFill>
        <p:spPr>
          <a:xfrm>
            <a:off x="468360" y="4365720"/>
            <a:ext cx="26636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D73-5203-4875-B3E1-05F232A843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delgad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81" name="Picture 4" descr="Digestion"/>
          <p:cNvPicPr/>
          <p:nvPr/>
        </p:nvPicPr>
        <p:blipFill>
          <a:blip r:embed="rId1"/>
          <a:stretch/>
        </p:blipFill>
        <p:spPr>
          <a:xfrm>
            <a:off x="179280" y="2133720"/>
            <a:ext cx="2903760" cy="32464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179280" y="5445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Quimo sai do estômago e entra no intestino del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780000" y="1989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fígado produz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bí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8"/>
          <p:cNvSpPr/>
          <p:nvPr/>
        </p:nvSpPr>
        <p:spPr>
          <a:xfrm flipV="1">
            <a:off x="2124000" y="2204640"/>
            <a:ext cx="2592360" cy="36036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9"/>
          <p:cNvSpPr/>
          <p:nvPr/>
        </p:nvSpPr>
        <p:spPr>
          <a:xfrm flipV="1">
            <a:off x="1476360" y="2445840"/>
            <a:ext cx="5472000" cy="62244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1835280" y="3860640"/>
            <a:ext cx="2616120" cy="972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851280" y="3645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pâncreas segreg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co pancre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1258920" y="3860640"/>
            <a:ext cx="4105080" cy="43200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826920" y="4653000"/>
            <a:ext cx="2700360" cy="43164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5580000" y="2717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5570640" y="44672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484360" y="4941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co intest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4067280" y="5373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203640" y="59500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19"/>
          <p:cNvSpPr/>
          <p:nvPr/>
        </p:nvSpPr>
        <p:spPr>
          <a:xfrm rot="16200000">
            <a:off x="5795640" y="522864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20"/>
          <p:cNvSpPr/>
          <p:nvPr/>
        </p:nvSpPr>
        <p:spPr>
          <a:xfrm>
            <a:off x="6516720" y="5300640"/>
            <a:ext cx="24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il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13CD-B3EF-4C0A-BBEB-70F83467B9A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no intestino delgado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99" name="Picture 4" descr="intestedelgado"/>
          <p:cNvPicPr/>
          <p:nvPr/>
        </p:nvPicPr>
        <p:blipFill>
          <a:blip r:embed="rId1"/>
          <a:stretch/>
        </p:blipFill>
        <p:spPr>
          <a:xfrm>
            <a:off x="250920" y="191628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324000" y="5589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Vilosidades intesti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6"/>
          <p:cNvSpPr/>
          <p:nvPr/>
        </p:nvSpPr>
        <p:spPr>
          <a:xfrm flipV="1">
            <a:off x="1979640" y="2060640"/>
            <a:ext cx="2736720" cy="122400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500720" y="1628640"/>
            <a:ext cx="424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losidades intestinais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 são saliências em forma de lu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qui são absorvidos os nutrientes simples que constituem o qui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6227640" y="393372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4859280" y="515772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 u="sng">
                <a:solidFill>
                  <a:srgbClr val="000000"/>
                </a:solidFill>
                <a:uFillTx/>
                <a:latin typeface="Times New Roman"/>
              </a:rPr>
              <a:t>Sang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6948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or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48F-5C36-494B-A98D-EE3324F2AF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no intestino delgado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79280" y="41752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Durante a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bsorção 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os nutrientes atravessam as paredes das vilosidades intestinais e entram na corrente sanguínea, para serem distribuídos por todas as células do organism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3708360" y="515772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10" descr="Digitalizar0005 re"/>
          <p:cNvPicPr/>
          <p:nvPr/>
        </p:nvPicPr>
        <p:blipFill>
          <a:blip r:embed="rId1"/>
          <a:srcRect l="0" t="13634" r="0" b="0"/>
          <a:stretch/>
        </p:blipFill>
        <p:spPr>
          <a:xfrm>
            <a:off x="1619280" y="1379520"/>
            <a:ext cx="5334120" cy="2841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1"/>
          <p:cNvSpPr/>
          <p:nvPr/>
        </p:nvSpPr>
        <p:spPr>
          <a:xfrm>
            <a:off x="421164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m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24000" y="57340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Quando chegam às células, os nutrientes, são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similados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, ou seja, são transformados pelas células na sua própria matéria e fornecem energ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583-1A11-4B1F-8256-35A8F1DF2E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gross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5" name="Picture 5" descr="intestgrosso_2"/>
          <p:cNvPicPr/>
          <p:nvPr/>
        </p:nvPicPr>
        <p:blipFill>
          <a:blip r:embed="rId1"/>
          <a:stretch/>
        </p:blipFill>
        <p:spPr>
          <a:xfrm>
            <a:off x="0" y="1341360"/>
            <a:ext cx="2844720" cy="5112000"/>
          </a:xfrm>
          <a:prstGeom prst="rect">
            <a:avLst/>
          </a:prstGeom>
          <a:ln w="0">
            <a:noFill/>
          </a:ln>
        </p:spPr>
      </p:pic>
      <p:sp>
        <p:nvSpPr>
          <p:cNvPr id="616" name="Line 17"/>
          <p:cNvSpPr/>
          <p:nvPr/>
        </p:nvSpPr>
        <p:spPr>
          <a:xfrm flipV="1">
            <a:off x="324000" y="2781000"/>
            <a:ext cx="3311280" cy="2087640"/>
          </a:xfrm>
          <a:prstGeom prst="line">
            <a:avLst/>
          </a:prstGeom>
          <a:ln cap="sq" w="50760">
            <a:solidFill>
              <a:srgbClr val="c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3708360" y="155736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As substâncias que não foram absorvidas passam para o intestino grosso. Neste ocorrem as últimas etapas da digestão. Grande parte da água, que ainda existia no Quilo, é absorvida para a corrente sanguí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21"/>
          <p:cNvSpPr/>
          <p:nvPr/>
        </p:nvSpPr>
        <p:spPr>
          <a:xfrm flipV="1">
            <a:off x="2556000" y="4300560"/>
            <a:ext cx="1079280" cy="928800"/>
          </a:xfrm>
          <a:prstGeom prst="line">
            <a:avLst/>
          </a:prstGeom>
          <a:ln cap="sq" w="50760">
            <a:solidFill>
              <a:srgbClr val="c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3708360" y="364500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No intestino grosso, vivem bactérias que são responsáveis pela formação de vitaminas, como a vitamina K. As bactérias encarregam-se da degradação final do Qui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AutoShape 26"/>
          <p:cNvSpPr/>
          <p:nvPr/>
        </p:nvSpPr>
        <p:spPr>
          <a:xfrm>
            <a:off x="5940360" y="501336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4932360" y="566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061C-5416-4B98-A5C4-81F8401FB4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gross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24" name="Picture 4" descr="colon"/>
          <p:cNvPicPr/>
          <p:nvPr/>
        </p:nvPicPr>
        <p:blipFill>
          <a:blip r:embed="rId1"/>
          <a:stretch/>
        </p:blipFill>
        <p:spPr>
          <a:xfrm>
            <a:off x="39528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5"/>
          <p:cNvSpPr/>
          <p:nvPr/>
        </p:nvSpPr>
        <p:spPr>
          <a:xfrm>
            <a:off x="5003640" y="256536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s fezes vão sendo “empurradas”, devido ao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vimentos peristálticos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do intestino grosso, para o reto, sendo finalmente expulsas para o exterior através do ân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278-BF95-41B1-A50B-753AAA864E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2195640" y="328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mo vêm o Sistema Digestivo Humano é muito simples, tem é que se saber cuidar bem dele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3492360" y="260280"/>
            <a:ext cx="28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im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9" name="Picture 10" descr="MCj04375550000[1]"/>
          <p:cNvPicPr/>
          <p:nvPr/>
        </p:nvPicPr>
        <p:blipFill>
          <a:blip r:embed="rId1"/>
          <a:stretch/>
        </p:blipFill>
        <p:spPr>
          <a:xfrm>
            <a:off x="179280" y="3141720"/>
            <a:ext cx="1866960" cy="15969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2"/>
          <p:cNvSpPr/>
          <p:nvPr/>
        </p:nvSpPr>
        <p:spPr>
          <a:xfrm>
            <a:off x="57240" y="6404040"/>
            <a:ext cx="46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33"/>
                </a:solidFill>
                <a:latin typeface="Times New Roman"/>
              </a:rPr>
              <a:t>Docentes: </a:t>
            </a:r>
            <a:r>
              <a:rPr b="0" lang="pt-PT" sz="1800" spc="-1" strike="noStrike">
                <a:solidFill>
                  <a:srgbClr val="333333"/>
                </a:solidFill>
                <a:latin typeface="Times New Roman"/>
              </a:rPr>
              <a:t>Constança Pinto e Mariana Casan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13" descr="MCj04375730000[1]"/>
          <p:cNvPicPr/>
          <p:nvPr/>
        </p:nvPicPr>
        <p:blipFill>
          <a:blip r:embed="rId2"/>
          <a:stretch/>
        </p:blipFill>
        <p:spPr>
          <a:xfrm>
            <a:off x="7397640" y="1844640"/>
            <a:ext cx="1746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9DA-4A70-4494-A23D-667B5B4000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aos nutrientes depois de ingeridos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24000" y="1700280"/>
            <a:ext cx="842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 todas as refeições devemos comer vários tipos d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trientes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íc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íp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óti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tamin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 rot="10800000">
            <a:off x="1727280" y="2286000"/>
            <a:ext cx="288720" cy="396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9"/>
                </a:lnTo>
                <a:cubicBezTo>
                  <a:pt x="10800" y="9799"/>
                  <a:pt x="5400" y="10699"/>
                  <a:pt x="0" y="10699"/>
                </a:cubicBezTo>
                <a:cubicBezTo>
                  <a:pt x="5400" y="10699"/>
                  <a:pt x="10800" y="11599"/>
                  <a:pt x="10800" y="124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979640" y="3213000"/>
            <a:ext cx="691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es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trientes</a:t>
            </a:r>
            <a:r>
              <a:rPr b="0" lang="pt-PT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a chegarem às células do nosso organismo precisam de ser transform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e conjunto de transformações designa-se 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gestã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2340000" y="5661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É uma função d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457200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444-9739-433F-A5EE-CCC9BA98A9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33"/>
                </a:solidFill>
                <a:latin typeface="Tahoma"/>
              </a:rPr>
              <a:t>Como é constituído o Sistema Digestivo do Homem?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1258920" y="1700280"/>
            <a:ext cx="738036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PT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gestivo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humano é constituído pel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ubo digestiv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ândulas anex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A35-9581-49E2-BFEA-F7E3DBFA18E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Tahoma"/>
              </a:rPr>
              <a:t>Tubo digestivo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14" name="Picture 3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>
            <a:off x="2484360" y="2349360"/>
            <a:ext cx="158292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1763640" y="3284640"/>
            <a:ext cx="15829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1187280" y="6021360"/>
            <a:ext cx="352908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1979640" y="5589720"/>
            <a:ext cx="158256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2379600" y="4668840"/>
            <a:ext cx="15829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1619280" y="649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979640" y="6669000"/>
            <a:ext cx="208764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406728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341964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Esóf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3835440" y="442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Estôm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564000" y="5300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4788000" y="5805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Intestino Gro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4140360" y="6400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Â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1763640" y="2637000"/>
            <a:ext cx="17287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3492360" y="23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Fari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0455-2C7F-4830-97CD-1E4CD2C757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Tahoma"/>
              </a:rPr>
              <a:t>Glândulas Anexas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2" name="Picture 21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sp>
        <p:nvSpPr>
          <p:cNvPr id="533" name="Line 22"/>
          <p:cNvSpPr/>
          <p:nvPr/>
        </p:nvSpPr>
        <p:spPr>
          <a:xfrm>
            <a:off x="2340000" y="2565360"/>
            <a:ext cx="172872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1476360" y="4508640"/>
            <a:ext cx="251928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24"/>
          <p:cNvSpPr/>
          <p:nvPr/>
        </p:nvSpPr>
        <p:spPr>
          <a:xfrm>
            <a:off x="1692360" y="5157720"/>
            <a:ext cx="273528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4067280" y="1916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Glândulas saliv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4067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Fí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4500720" y="49417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Pânc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1763640" y="2276640"/>
            <a:ext cx="223200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5E7-63DC-4B2E-8EB0-F6A9209440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Transformações dos alimentos no sistema digestivo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79280" y="1844640"/>
            <a:ext cx="8640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urante a digestão, os alimentos sofrem dois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transformaç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ções mecânicas</a:t>
            </a: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– Resultam dos movimentos do tubo digestivo (mastigação e movimentos peristáltico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ções químicas</a:t>
            </a: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– Resultam da atuação das substâncias produzidas pelas glândulas anexas (sucos digestivos) do sistema diges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297-D87C-4219-BAAF-FA9A8CB0B5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Que transformações acontecem na boca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5" name="Picture 8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27"/>
          <p:cNvGrpSpPr/>
          <p:nvPr/>
        </p:nvGrpSpPr>
        <p:grpSpPr>
          <a:xfrm>
            <a:off x="1692360" y="2276640"/>
            <a:ext cx="2016000" cy="504720"/>
            <a:chOff x="1692360" y="2276640"/>
            <a:chExt cx="2016000" cy="504720"/>
          </a:xfrm>
        </p:grpSpPr>
        <p:sp>
          <p:nvSpPr>
            <p:cNvPr id="547" name="Line 10"/>
            <p:cNvSpPr/>
            <p:nvPr/>
          </p:nvSpPr>
          <p:spPr>
            <a:xfrm>
              <a:off x="1692360" y="2276640"/>
              <a:ext cx="142920" cy="5047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1"/>
            <p:cNvSpPr/>
            <p:nvPr/>
          </p:nvSpPr>
          <p:spPr>
            <a:xfrm flipV="1">
              <a:off x="1835280" y="2349360"/>
              <a:ext cx="1873080" cy="432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Line 12"/>
          <p:cNvSpPr/>
          <p:nvPr/>
        </p:nvSpPr>
        <p:spPr>
          <a:xfrm flipV="1">
            <a:off x="2340000" y="2349360"/>
            <a:ext cx="1440000" cy="21600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3870360" y="20480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ção química das glândulas saliv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4427640" y="2421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3635280" y="2997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ção mecânic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os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dentes e da lín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3995640" y="3716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(mastig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5940360" y="436572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4067280" y="558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Times New Roman"/>
              </a:rPr>
              <a:t>Bolo Aliment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24"/>
          <p:cNvSpPr/>
          <p:nvPr/>
        </p:nvSpPr>
        <p:spPr>
          <a:xfrm>
            <a:off x="2052720" y="2276640"/>
            <a:ext cx="288720" cy="727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EA6-ADA4-47A9-8D0B-65D047A539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Para onde vai o bolo alimentar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924360" y="21337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lo alimentar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é empurrado pela língua contra a parte superior da boca, passando para a faringe. Inicia-se a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glutiçã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156360" y="3716280"/>
            <a:ext cx="433440" cy="792360"/>
          </a:xfrm>
          <a:prstGeom prst="downArrow">
            <a:avLst>
              <a:gd name="adj1" fmla="val 50000"/>
              <a:gd name="adj2" fmla="val 45702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4464000" y="443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glote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fecha a entrada do ar deixando passar o bolo aliment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6227640" y="5445000"/>
            <a:ext cx="433440" cy="792360"/>
          </a:xfrm>
          <a:prstGeom prst="downArrow">
            <a:avLst>
              <a:gd name="adj1" fmla="val 50000"/>
              <a:gd name="adj2" fmla="val 45702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5003640" y="62784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óf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13" descr="Deglucion"/>
          <p:cNvPicPr/>
          <p:nvPr/>
        </p:nvPicPr>
        <p:blipFill>
          <a:blip r:embed="rId1"/>
          <a:stretch/>
        </p:blipFill>
        <p:spPr>
          <a:xfrm>
            <a:off x="0" y="1773360"/>
            <a:ext cx="3780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6F57-5CEF-412F-AEB6-E93CAAA7C0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esófag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500720" y="2502000"/>
            <a:ext cx="460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bolo alimentar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desce até ao estômago com a ajuda dos </a:t>
            </a: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vimentos peristálticos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(ação mecâ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7" descr="esófago_2"/>
          <p:cNvPicPr/>
          <p:nvPr/>
        </p:nvPicPr>
        <p:blipFill>
          <a:blip r:embed="rId1"/>
          <a:stretch/>
        </p:blipFill>
        <p:spPr>
          <a:xfrm>
            <a:off x="250920" y="1773360"/>
            <a:ext cx="2786040" cy="4851360"/>
          </a:xfrm>
          <a:prstGeom prst="rect">
            <a:avLst/>
          </a:prstGeom>
          <a:ln w="0">
            <a:noFill/>
          </a:ln>
        </p:spPr>
      </p:pic>
      <p:sp>
        <p:nvSpPr>
          <p:cNvPr id="569" name="Line 5"/>
          <p:cNvSpPr/>
          <p:nvPr/>
        </p:nvSpPr>
        <p:spPr>
          <a:xfrm>
            <a:off x="2484360" y="4076640"/>
            <a:ext cx="187164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0:43:58Z</dcterms:created>
  <dc:creator>Mariana e Constança</dc:creator>
  <dc:description/>
  <cp:keywords/>
  <dc:language>en-US</dc:language>
  <cp:lastModifiedBy>MMCasanoca</cp:lastModifiedBy>
  <dcterms:modified xsi:type="dcterms:W3CDTF">2012-06-30T17:04:20Z</dcterms:modified>
  <cp:revision>74</cp:revision>
  <dc:subject/>
  <dc:title>O Sistema Digestivo no Hom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2070</vt:lpwstr>
  </property>
</Properties>
</file>